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änge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inz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62640" y="54936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längerung der Thrombinz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Thrombin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ibrin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8" idx="3"/>
            <a:endCxn id="100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3" name=""/>
          <p:cNvCxnSpPr>
            <a:stCxn id="98" idx="3"/>
            <a:endCxn id="101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hrombin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58320" y="549360"/>
            <a:ext cx="690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längerung der Thrombinzei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Störung der Thrombin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3"/>
            <a:endCxn id="10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 Hepari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brin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97280" y="549360"/>
            <a:ext cx="62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längerung der Thrombinz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törung der Fibrin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0" idx="3"/>
            <a:endCxn id="11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ysfibrinoge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bei Leberinsuffizienz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erfibrin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bei DIC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ibrinolyse-Therapie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560" y="6153480"/>
            <a:ext cx="435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Gregor und Steffi</cp:lastModifiedBy>
  <cp:lastPrinted>1999-05-13T12:26:48Z</cp:lastPrinted>
  <dcterms:modified xsi:type="dcterms:W3CDTF">2008-10-17T18:46:04Z</dcterms:modified>
  <cp:revision>332</cp:revision>
  <dc:subject/>
  <dc:title>Vorstellung einer Neuheit</dc:title>
</cp:coreProperties>
</file>